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F5D-2933-4D19-9C1A-DF703A247E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82B-F81B-456E-90FA-9C7B74B5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B0F-631C-45FF-B9B8-BCA2B9C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0C8-9D7B-4C61-AFB1-39EFACAD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71B-2935-44C4-94DE-B5F2A764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869-B680-438A-8B1F-E55FF32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C48-F2E3-45E6-8FC9-28618382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313-8938-4A9F-B3ED-1E9CABD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31A-ADA5-4EA1-9D65-85887D69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A6D-F08E-436C-9567-7006C51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ED8-D3ED-4095-9973-8C7F91CB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504-0BF8-44F2-AF65-8B06023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023-6F2F-43D5-AEF3-5F69015C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B89-E614-4C61-9D8E-3B64EB86D9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8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RomaK</cp:lastModifiedBy>
  <dcterms:modified xsi:type="dcterms:W3CDTF">2015-09-04T09:25:15Z</dcterms:modified>
  <cp:revision>8</cp:revision>
  <dc:subject/>
  <dc:title>A Brief History of Life</dc:title>
</cp:coreProperties>
</file>